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94C8-6691-4152-AD24-FA561B466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81EE-3729-4C7D-AC85-B147BEE5A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61B0-56FA-41D1-9587-4ADCED4B3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2B47-E742-4B31-A79F-C0D738116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88EE-9A22-4088-8FE6-D8787F329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C616-F404-42E0-AF52-1264E0334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C370-D1CE-4037-8FAB-CB731B2D8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CC48-717E-4905-B26B-57361B828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5D63-5256-429E-970C-C25001E8A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AB34-06D3-4769-85B8-E8562BBA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5840-0770-4F07-80A6-F33722B3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252F-0DC8-49C6-8177-91C13212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58A38-358C-46C0-979C-F78CD8BE6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33720" y="609480"/>
            <a:ext cx="4952880" cy="4953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743200" y="4800600"/>
            <a:ext cx="3124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  Love  You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23:40:59Z</dcterms:created>
  <dc:creator>Maria.Bagadion</dc:creator>
  <dc:description/>
  <dc:language>en-US</dc:language>
  <cp:lastModifiedBy>Maria.Bagadion</cp:lastModifiedBy>
  <dcterms:modified xsi:type="dcterms:W3CDTF">2010-05-03T23:47:47Z</dcterms:modified>
  <cp:revision>1</cp:revision>
  <dc:subject/>
  <dc:title>Slide 1</dc:title>
</cp:coreProperties>
</file>